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Why%20do%20animals%20differ%203.wav" ContentType="audio/x-wav"/>
  <Override PartName="/ppt/media/image4.png" ContentType="image/png"/>
  <Override PartName="/ppt/media/Why%20do%20animals%20differ%204.wav" ContentType="audio/x-wav"/>
  <Override PartName="/ppt/media/image5.png" ContentType="image/png"/>
  <Override PartName="/ppt/media/Why%20do%20animals%20differ%205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1E2-DEFC-4D05-9A9A-5D45942B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498-6275-4376-B675-016AD081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8287-8529-4979-AE1B-0E45FD7B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271-D13C-4AAF-AC7B-F30368C1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222-EF97-41AD-8C6D-8F59A3BE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385-EA40-4837-B719-FC367D53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EAA-CB4C-4AF1-9E35-DDF41C64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8B3-059E-48CE-8FD8-E0D905CE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4E3-1E72-4227-8B79-51381F09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D62-563A-4E5C-B5AB-8D54AC92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B8D-0D97-47D7-B2DD-A9A4BF23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41D-8389-48C0-8628-AAC731D6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4D41-8E24-4741-A3AF-65B65C9B2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y%20do%20animals%20differ%203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y%20do%20animals%20differ%204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y%20do%20animals%20differ%205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457200"/>
            <a:ext cx="57722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y Do Animals Differ?</a:t>
            </a:r>
            <a:endParaRPr b="0" lang="en-US" sz="4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662200" y="464832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Linda 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orld" descr=""/>
          <p:cNvPicPr/>
          <p:nvPr/>
        </p:nvPicPr>
        <p:blipFill>
          <a:blip r:embed="rId1"/>
          <a:stretch/>
        </p:blipFill>
        <p:spPr>
          <a:xfrm>
            <a:off x="380880" y="5121360"/>
            <a:ext cx="33498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46280" y="1260360"/>
            <a:ext cx="6188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Animals Ne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sh Ai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ainforest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342900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6880" y="3505320"/>
            <a:ext cx="6477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y Cove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ogtree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22860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0440" y="938160"/>
            <a:ext cx="453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Animals H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Predator or Pr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Camouf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Hide and S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ottontail-rabbit" descr=""/>
          <p:cNvPicPr/>
          <p:nvPr/>
        </p:nvPicPr>
        <p:blipFill>
          <a:blip r:embed="rId1"/>
          <a:stretch/>
        </p:blipFill>
        <p:spPr>
          <a:xfrm>
            <a:off x="4800600" y="3530520"/>
            <a:ext cx="3048120" cy="23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609480"/>
            <a:ext cx="7102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ited to their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Birds and their bea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Animal tee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arrot2" descr=""/>
          <p:cNvPicPr/>
          <p:nvPr/>
        </p:nvPicPr>
        <p:blipFill>
          <a:blip r:embed="rId1"/>
          <a:stretch/>
        </p:blipFill>
        <p:spPr>
          <a:xfrm>
            <a:off x="6248520" y="2133720"/>
            <a:ext cx="2457360" cy="750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2T15:00:32Z</dcterms:created>
  <dc:creator>Jefferson County Schools</dc:creator>
  <dc:description/>
  <dc:language>en-US</dc:language>
  <cp:lastModifiedBy>Elisa Wern</cp:lastModifiedBy>
  <dcterms:modified xsi:type="dcterms:W3CDTF">2004-01-18T02:35:33Z</dcterms:modified>
  <cp:revision>9</cp:revision>
  <dc:subject/>
  <dc:title>PowerPoint Presentation</dc:title>
</cp:coreProperties>
</file>